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jpeg" ContentType="image/jpeg"/>
  <Override PartName="/ppt/media/image13.jpeg" ContentType="image/jpeg"/>
  <Override PartName="/ppt/media/image3.wmf" ContentType="image/x-wmf"/>
  <Override PartName="/ppt/media/image1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5.wmf" ContentType="image/x-wmf"/>
  <Override PartName="/ppt/media/image2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855B-A2FB-4DF4-9882-B10EB6A23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033B-604F-440B-9E1A-D44A38D43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86DB-C9CE-4F35-9F5E-299B076EE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DE83-C2D4-486A-B636-AAEC57BB3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8866D-70DF-416D-8002-CE2E6977D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DC991-9C61-414F-B646-9113AF094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582E0-0818-466E-85D6-B861C5CF7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17E60-3C7A-4FE6-B699-AD077E85D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AF490-9F43-460D-8CE5-A47CD5C17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7F21A-BEA1-45AA-9CAA-7AA044711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DC34A-701E-4E92-A00C-55F2D377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2F84-039D-46AE-871F-0C62C60ED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9B2B1-CEE2-4DA8-A4CF-CB88F208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CF657-7C9B-4B49-B4E3-D5FD4FE5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956E3-95D9-4628-AA0D-F40620149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9A085-E8F1-48D7-938E-326C531CA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45934-B4E8-438C-AA2E-B12E0AA82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226A-AEC5-46A1-9233-FD7B2934A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ECF0-CBE9-4EF7-96F7-F1A32B347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B894-1CF8-46F2-84A6-8A4875918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412E-3BA4-4B7F-9A5F-0B0B6D56F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D39D-1F33-4CC3-8BAA-814A8706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7D51-A361-4B7F-BC07-B9E00D07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EF3D-4AFE-46AF-9C62-6221598B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667E4-7D1B-4A3D-9C22-043087D04D9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B2FFD-091A-4401-98C8-EB6698DC399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hyperlink" Target="mailto:John.Kuteesakwe@gtz.de" TargetMode="External"/><Relationship Id="rId3" Type="http://schemas.openxmlformats.org/officeDocument/2006/relationships/hyperlink" Target="mailto:jkute@yahoo.com" TargetMode="Externa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A Stove Rockets Uganda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209680" y="15235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motion of Renewable Energy and Energy Efficiency Progr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5877000"/>
            <a:ext cx="44370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By John Kuteesakw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gtzlogo-standard-rgb-72" descr=""/>
          <p:cNvPicPr/>
          <p:nvPr/>
        </p:nvPicPr>
        <p:blipFill>
          <a:blip r:embed="rId1"/>
          <a:srcRect l="0" t="0" r="0" b="18549"/>
          <a:stretch/>
        </p:blipFill>
        <p:spPr>
          <a:xfrm>
            <a:off x="171360" y="71280"/>
            <a:ext cx="234324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cc"/>
                </a:solidFill>
                <a:latin typeface="Tahoma"/>
              </a:rPr>
              <a:t>The Stove Dissemination Strategy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642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dissemination strategy is as critical as the stove desig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strategy that is discordant with the socio-economic framework achieves one result: missing the target group effective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aditional commercialization can make proper sense in the urban communities, where all livelihood items have to be purchas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ever, in rural poor communities the mode of commercialization needs modific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reasonable stove price in the urban community may be a prohibitive price in the rura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 GTZ-Uganda uses two parallel strategies: Exclusive commercialization and semi-commercializati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xclusive commercializ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TZ-Uganda supports a pure commercialization of stoves by supporting the private dealers. The strategy involv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dentification of the authentic private stove dealer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fering training in the stove design and producti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pporting the marketing campaign and operating too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pervision and quality contro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t this strategy is appropriate for the upper social economic class consumers, including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higher income households, especially in the urban centers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social institutions a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commercial enterpri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88720"/>
            <a:ext cx="853452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Metal Rocket Household Stove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33520" y="933480"/>
            <a:ext cx="7924680" cy="59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97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Rocket Institutional Stoves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656240" y="1143000"/>
            <a:ext cx="4298760" cy="51814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28600" y="1066680"/>
            <a:ext cx="4176720" cy="52628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990720" y="632196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Mobile typ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61360" y="6400800"/>
            <a:ext cx="15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Fixed 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828800" y="2762280"/>
            <a:ext cx="5562720" cy="4172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ut what about the poor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actually constitute the majority of the popul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are the ones most severely affec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47680" y="57240"/>
            <a:ext cx="8896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e7960"/>
                </a:solidFill>
                <a:latin typeface="Tahoma"/>
              </a:rPr>
              <a:t>Typical Poor Household in Uganda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95360" y="743040"/>
            <a:ext cx="8286840" cy="614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emi-commercialized Approac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4267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an adaptive strategy for the dissemination of a mud rocket sto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tove production process is demystified, decentralized and localiz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verty does not hinder affordabilit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4343400" y="19051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TERIAL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772400" y="1905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OOL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4267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KIL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410080" y="2209680"/>
            <a:ext cx="2438640" cy="22291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7391520" y="44197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STRIBUT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19720" y="2286000"/>
            <a:ext cx="10666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66"/>
                </a:solidFill>
                <a:latin typeface="Tahoma"/>
              </a:rPr>
              <a:t>-chea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66"/>
                </a:solidFill>
                <a:latin typeface="Tahoma"/>
              </a:rPr>
              <a:t>-locally avail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848720" y="228600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66"/>
                </a:solidFill>
                <a:latin typeface="Tahoma"/>
              </a:rPr>
              <a:t>The very basic tools for surviv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95680" y="457200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66"/>
                </a:solidFill>
                <a:latin typeface="Tahoma"/>
              </a:rPr>
              <a:t>Simplified and multipli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43800" y="472284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66"/>
                </a:solidFill>
                <a:latin typeface="Tahoma"/>
              </a:rPr>
              <a:t>Production at the consumer locat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9917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peration of the Semi-commercialized Syste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production is a joint venture between the producer and the consum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onsumer is not a passive recipient but an active production compan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production tasks are shared between the two parti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spcBef>
                <a:spcPts val="550"/>
              </a:spcBef>
              <a:buClr>
                <a:srgbClr val="ffffff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he family provides and prepares all the construction materials and pays a small labor fee to the stove builde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spcBef>
                <a:spcPts val="550"/>
              </a:spcBef>
              <a:buClr>
                <a:srgbClr val="ffffff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he builder constructs the stove with the family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spcBef>
                <a:spcPts val="550"/>
              </a:spcBef>
              <a:buClr>
                <a:srgbClr val="ffffff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he family does the finishing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semination is implemented by NG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-4572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0" y="-5335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067680" cy="6800760"/>
          </a:xfrm>
          <a:prstGeom prst="rect">
            <a:avLst/>
          </a:prstGeom>
          <a:ln w="0">
            <a:noFill/>
          </a:ln>
        </p:spPr>
      </p:pic>
      <p:sp>
        <p:nvSpPr>
          <p:cNvPr id="152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7">
            <a:lum bright="18000"/>
          </a:blip>
          <a:stretch/>
        </p:blipFill>
        <p:spPr>
          <a:xfrm>
            <a:off x="0" y="-304920"/>
            <a:ext cx="9144000" cy="7162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90680" y="-360"/>
            <a:ext cx="8162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raining Pyrami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457200"/>
            <a:ext cx="9144000" cy="6019920"/>
          </a:xfrm>
          <a:prstGeom prst="flowChartExtra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685800" y="4419720"/>
            <a:ext cx="7848720" cy="1981080"/>
            <a:chOff x="685800" y="4419720"/>
            <a:chExt cx="7848720" cy="1981080"/>
          </a:xfrm>
        </p:grpSpPr>
        <p:sp>
          <p:nvSpPr>
            <p:cNvPr id="159" name=""/>
            <p:cNvSpPr/>
            <p:nvPr/>
          </p:nvSpPr>
          <p:spPr>
            <a:xfrm>
              <a:off x="685800" y="5638680"/>
              <a:ext cx="7848720" cy="762120"/>
            </a:xfrm>
            <a:prstGeom prst="rect">
              <a:avLst/>
            </a:prstGeom>
            <a:solidFill>
              <a:srgbClr val="ff33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Community Stove Builders/ Artisan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495680" y="4419720"/>
              <a:ext cx="0" cy="1218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419720" y="4419720"/>
              <a:ext cx="259056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ffcc"/>
                </a:buClr>
                <a:buFont typeface="Verdan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Verdana"/>
                  <a:ea typeface="Times New Roman"/>
                </a:rPr>
                <a:t>Select traine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ffcc"/>
                </a:buClr>
                <a:buFont typeface="Verdan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Verdana"/>
                  <a:ea typeface="Times New Roman"/>
                </a:rPr>
                <a:t>Tra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ffcc"/>
                </a:buClr>
                <a:buFont typeface="Verdan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Verdana"/>
                  <a:ea typeface="Times New Roman"/>
                </a:rPr>
                <a:t>Monitor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971800" y="1752480"/>
            <a:ext cx="3276720" cy="1524240"/>
            <a:chOff x="2971800" y="1752480"/>
            <a:chExt cx="3276720" cy="1524240"/>
          </a:xfrm>
        </p:grpSpPr>
        <p:sp>
          <p:nvSpPr>
            <p:cNvPr id="163" name=""/>
            <p:cNvSpPr/>
            <p:nvPr/>
          </p:nvSpPr>
          <p:spPr>
            <a:xfrm>
              <a:off x="2971800" y="2590920"/>
              <a:ext cx="3276720" cy="6858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Verdana"/>
                  <a:ea typeface="Times New Roman"/>
                </a:rPr>
                <a:t>NGO Workforc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Verdana"/>
                  <a:ea typeface="Times New Roman"/>
                </a:rPr>
                <a:t>(District coordinators)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495680" y="1752480"/>
              <a:ext cx="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495680" y="182880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Verdana"/>
                  <a:ea typeface="Times New Roman"/>
                </a:rPr>
                <a:t>Identify &amp; train NG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4114800" y="1066680"/>
            <a:ext cx="914400" cy="6858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GTZ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PREE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81280" y="1752480"/>
            <a:ext cx="1981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209680" y="3276720"/>
            <a:ext cx="4876920" cy="1110600"/>
            <a:chOff x="2209680" y="3276720"/>
            <a:chExt cx="4876920" cy="1110600"/>
          </a:xfrm>
        </p:grpSpPr>
        <p:sp>
          <p:nvSpPr>
            <p:cNvPr id="169" name=""/>
            <p:cNvSpPr/>
            <p:nvPr/>
          </p:nvSpPr>
          <p:spPr>
            <a:xfrm>
              <a:off x="2209680" y="3701880"/>
              <a:ext cx="4876920" cy="685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Verdana"/>
                  <a:ea typeface="Times New Roman"/>
                </a:rPr>
                <a:t>Subcounty Coordinators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95680" y="3276720"/>
              <a:ext cx="0" cy="46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48320" y="332064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cc"/>
                  </a:solidFill>
                  <a:latin typeface="Verdana"/>
                  <a:ea typeface="Times New Roman"/>
                </a:rPr>
                <a:t>Select &amp; Trai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9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9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e7960"/>
                </a:solidFill>
                <a:latin typeface="Arial"/>
              </a:rPr>
              <a:t>ENERGY SITUATION IN UGAND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5257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iomass represents 93% of the national energy consumpti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97% of the households use biomass for cook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y 1995, the biomass demand had already exceeded the sustainable supp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209680" y="1295280"/>
          <a:ext cx="4343400" cy="413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295280"/>
                    <a:ext cx="4343400" cy="41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Motivation, Mobilization, Marketing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52560" y="1143000"/>
            <a:ext cx="742932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162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mpac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991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ver 500,000 households have received the mud rocket stoves disseminated by 7 NGOs in 4 yea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ral stove producers are getting significant incomes from the stove as they move to different areas and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ime saved for wood collection and cooking, IAP reduction are recognised by users (independent studies already don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0120"/>
            <a:ext cx="777240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anks for Listening!</a:t>
            </a:r>
            <a:r>
              <a:rPr b="1" lang="en-US" sz="4400" spc="-1" strike="noStrike">
                <a:solidFill>
                  <a:srgbClr val="be796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8458200" cy="47307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76320" y="5589720"/>
            <a:ext cx="4076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 Kuteesakw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.O.Box 10346 Kampala (Ugand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b: +256-77-276416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57880" y="5494320"/>
            <a:ext cx="46861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-mail: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John.Kuteesakwe@gtz.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Arial"/>
                <a:hlinkClick r:id="rId3"/>
              </a:rPr>
              <a:t>jkute@yahoo.co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gtzlogo-standard-rgb-72" descr=""/>
          <p:cNvPicPr/>
          <p:nvPr/>
        </p:nvPicPr>
        <p:blipFill>
          <a:blip r:embed="rId4"/>
          <a:srcRect l="0" t="0" r="0" b="18549"/>
          <a:stretch/>
        </p:blipFill>
        <p:spPr>
          <a:xfrm>
            <a:off x="2438280" y="5522760"/>
            <a:ext cx="609840" cy="49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0" y="-46080"/>
          <a:ext cx="9144000" cy="6904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46080"/>
                    <a:ext cx="9144000" cy="690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0000"/>
                </a:solidFill>
                <a:latin typeface="Times New Roman"/>
              </a:rPr>
              <a:t>Why does the Energy Advisory Project love us so much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315200" cy="4876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8680" cy="686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53971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most efficient beast of Burde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144360"/>
            <a:ext cx="9144000" cy="54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be7960"/>
                </a:solidFill>
                <a:latin typeface="Tahoma"/>
              </a:rPr>
              <a:t>Driving factors for Biomass Crisi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of inefficient cooking devices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– e.g. the 3 stone fi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pid population growth (3.4%) –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more people … less bioma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verty –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retains population on biomass …can’t afford alternativ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209680" y="2970360"/>
            <a:ext cx="5181840" cy="38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77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" dur="770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80640" y="60912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itigation Concep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642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es to reduce biomass demand involve the dissemination of efficient stov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t the impact of such efforts depends on the magnitude of intervention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minor scale intervention cannot offset a major scale crisis of biomass energy: the problem grows faster than the s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dinarily, long “pilot” projects have been the most fashionable, yet the practical problems don’t ‘pilot’ for long: they tend to scale up rapid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066680" y="5791320"/>
            <a:ext cx="2057040" cy="1002240"/>
            <a:chOff x="1066680" y="5791320"/>
            <a:chExt cx="2057040" cy="100224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1409400" y="5791320"/>
              <a:ext cx="1456920" cy="96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1066680" y="6425280"/>
              <a:ext cx="20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Verdana"/>
                  <a:ea typeface="Times New Roman"/>
                </a:rPr>
                <a:t>The proble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7010280" y="5486400"/>
            <a:ext cx="1752840" cy="1314360"/>
            <a:chOff x="7010280" y="5486400"/>
            <a:chExt cx="1752840" cy="1314360"/>
          </a:xfrm>
        </p:grpSpPr>
        <p:pic>
          <p:nvPicPr>
            <p:cNvPr id="115" name="" descr=""/>
            <p:cNvPicPr/>
            <p:nvPr/>
          </p:nvPicPr>
          <p:blipFill>
            <a:blip r:embed="rId2"/>
            <a:stretch/>
          </p:blipFill>
          <p:spPr>
            <a:xfrm>
              <a:off x="7010280" y="5486400"/>
              <a:ext cx="1752840" cy="13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7115760" y="6415200"/>
              <a:ext cx="141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ahoma"/>
                </a:rPr>
                <a:t>The solu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8391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caling up is the valid Answ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566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ull-scale energy problem can only be neutralized by scaling up the energy solu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 biomass, it involves the scaling up of improved stoves to cover the bigger proportions of the vulnerable popul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achieve this, two considerations are critical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design of the technology a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design of the dissemination strate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3:04:38Z</dcterms:created>
  <dc:creator>GTZ-EAP</dc:creator>
  <dc:description/>
  <dc:language>en-US</dc:language>
  <cp:lastModifiedBy>Jan-Hendrik Soehlemann</cp:lastModifiedBy>
  <dcterms:modified xsi:type="dcterms:W3CDTF">2009-01-08T09:02:34Z</dcterms:modified>
  <cp:revision>176</cp:revision>
  <dc:subject/>
  <dc:title>Uganda’s Scaling up Approach </dc:title>
</cp:coreProperties>
</file>